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90B40-C60D-4914-B9DA-57E65703E36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297F2-5B2D-4613-81FD-72B3826837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0C8EF-5AEE-42FC-960A-1A2913EF0AB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F8994-694A-4259-A360-B2334D2DB07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DDD39-5D34-4DE0-BFB7-3CB64919A66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21944-1407-4C92-BD46-FE2A1CAB103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152D0-AB50-4486-8824-C1D13D1F752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98BBA-8495-43ED-9711-B071C5091C9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B070F-4F3D-4365-86B6-14992C1278F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519CA-09FA-486C-84B6-4285E1B4AC9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739B2-4A86-4998-8F7D-3CAC7823431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AF3F0-08D9-4B43-A4A7-AF332229BFE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01F46-9791-477F-82B3-0CE05501622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50374-5392-41C4-A1EA-C7028D0C8ED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43B1B-31CD-43AA-BDBA-6238D2B58AB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F85C0-B523-494A-83C7-03B0F6D9BA8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08C35-11B3-493A-B3F1-9302310CB12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1FE30-55D6-4665-9268-A9D7B2D3642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9BB30-9B08-4281-986B-423F720786C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7F2BE-21D8-4720-BD4E-210DC761540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F0F73-855C-4D3B-8427-1DDDB97997C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7239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3520" y="4190760"/>
            <a:ext cx="7239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33320" y="152388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3520" y="419076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33320" y="419076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233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971160" y="1523880"/>
            <a:ext cx="233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18800" y="1523880"/>
            <a:ext cx="233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3520" y="4190760"/>
            <a:ext cx="233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971160" y="4190760"/>
            <a:ext cx="233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18800" y="4190760"/>
            <a:ext cx="233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523520" y="1523880"/>
            <a:ext cx="7239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7239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35326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33320" y="1523880"/>
            <a:ext cx="35326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3520" y="151920"/>
            <a:ext cx="7239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33320" y="1523880"/>
            <a:ext cx="35326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520" y="419076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3520" y="1523880"/>
            <a:ext cx="7239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35326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33320" y="152388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33320" y="419076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33320" y="152388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523520" y="4190760"/>
            <a:ext cx="7239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7239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523520" y="4190760"/>
            <a:ext cx="7239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33320" y="152388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523520" y="419076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33320" y="419076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233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971160" y="1523880"/>
            <a:ext cx="233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18800" y="1523880"/>
            <a:ext cx="233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523520" y="4190760"/>
            <a:ext cx="233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971160" y="4190760"/>
            <a:ext cx="233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18800" y="4190760"/>
            <a:ext cx="233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7239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35326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33320" y="1523880"/>
            <a:ext cx="35326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3520" y="151920"/>
            <a:ext cx="7239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33320" y="1523880"/>
            <a:ext cx="35326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3520" y="419076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35326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33320" y="152388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33320" y="419076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33320" y="152388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3520" y="4190760"/>
            <a:ext cx="7239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8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Rectangle 9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gradFill rotWithShape="0">
              <a:gsLst>
                <a:gs pos="0">
                  <a:srgbClr val="737f39"/>
                </a:gs>
                <a:gs pos="100000">
                  <a:srgbClr val="48301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" name="Group 17"/>
            <p:cNvGrpSpPr/>
            <p:nvPr/>
          </p:nvGrpSpPr>
          <p:grpSpPr>
            <a:xfrm>
              <a:off x="0" y="0"/>
              <a:ext cx="1371600" cy="6858000"/>
              <a:chOff x="0" y="0"/>
              <a:chExt cx="1371600" cy="6858000"/>
            </a:xfrm>
          </p:grpSpPr>
          <p:sp>
            <p:nvSpPr>
              <p:cNvPr id="3" name="Rectangle 13"/>
              <p:cNvSpPr/>
              <p:nvPr/>
            </p:nvSpPr>
            <p:spPr>
              <a:xfrm>
                <a:off x="0" y="0"/>
                <a:ext cx="1371600" cy="6858000"/>
              </a:xfrm>
              <a:prstGeom prst="rect">
                <a:avLst/>
              </a:prstGeom>
              <a:gradFill rotWithShape="0">
                <a:gsLst>
                  <a:gs pos="0">
                    <a:srgbClr val="e3c16b"/>
                  </a:gs>
                  <a:gs pos="100000">
                    <a:srgbClr val="48301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4" name="Picture 14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0"/>
                <a:ext cx="1371600" cy="144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" name="Line 15"/>
              <p:cNvSpPr/>
              <p:nvPr/>
            </p:nvSpPr>
            <p:spPr>
              <a:xfrm>
                <a:off x="1371600" y="0"/>
                <a:ext cx="0" cy="6858000"/>
              </a:xfrm>
              <a:prstGeom prst="line">
                <a:avLst/>
              </a:prstGeom>
              <a:ln w="9360">
                <a:solidFill>
                  <a:srgbClr val="68452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" name="Rectangle 10"/>
          <p:cNvSpPr/>
          <p:nvPr/>
        </p:nvSpPr>
        <p:spPr>
          <a:xfrm>
            <a:off x="1371600" y="1447920"/>
            <a:ext cx="7620120" cy="525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523520" y="1523880"/>
            <a:ext cx="7239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5a28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9966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5a28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9966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5a28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996633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5a28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9966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5a28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5a28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5a28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19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6" name="Rectangle 11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gradFill rotWithShape="0">
              <a:gsLst>
                <a:gs pos="0">
                  <a:srgbClr val="525a28"/>
                </a:gs>
                <a:gs pos="100000">
                  <a:srgbClr val="48301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" name="Group 18"/>
            <p:cNvGrpSpPr/>
            <p:nvPr/>
          </p:nvGrpSpPr>
          <p:grpSpPr>
            <a:xfrm>
              <a:off x="0" y="0"/>
              <a:ext cx="1371600" cy="6858000"/>
              <a:chOff x="0" y="0"/>
              <a:chExt cx="1371600" cy="6858000"/>
            </a:xfrm>
          </p:grpSpPr>
          <p:grpSp>
            <p:nvGrpSpPr>
              <p:cNvPr id="48" name="Group 17"/>
              <p:cNvGrpSpPr/>
              <p:nvPr/>
            </p:nvGrpSpPr>
            <p:grpSpPr>
              <a:xfrm>
                <a:off x="0" y="0"/>
                <a:ext cx="1371600" cy="6858000"/>
                <a:chOff x="0" y="0"/>
                <a:chExt cx="1371600" cy="6858000"/>
              </a:xfrm>
            </p:grpSpPr>
            <p:sp>
              <p:nvSpPr>
                <p:cNvPr id="49" name="Rectangle 15"/>
                <p:cNvSpPr/>
                <p:nvPr/>
              </p:nvSpPr>
              <p:spPr>
                <a:xfrm>
                  <a:off x="0" y="0"/>
                  <a:ext cx="1371600" cy="6858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e3c16b"/>
                    </a:gs>
                    <a:gs pos="100000">
                      <a:srgbClr val="483018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50" name="Picture 13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0" y="0"/>
                  <a:ext cx="1371600" cy="14479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51" name="Line 10"/>
              <p:cNvSpPr/>
              <p:nvPr/>
            </p:nvSpPr>
            <p:spPr>
              <a:xfrm>
                <a:off x="1371600" y="0"/>
                <a:ext cx="0" cy="6858000"/>
              </a:xfrm>
              <a:prstGeom prst="line">
                <a:avLst/>
              </a:prstGeom>
              <a:ln w="9360">
                <a:solidFill>
                  <a:srgbClr val="68452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1523520" y="1523880"/>
            <a:ext cx="7239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5a28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9966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5a28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9966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5a28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996633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5a28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9966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5a28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5a28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5a28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600200" y="1676160"/>
            <a:ext cx="7238880" cy="1469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e3c16b"/>
                </a:solidFill>
                <a:latin typeface="Times New Roman"/>
              </a:rPr>
              <a:t>Français 2/3</a:t>
            </a:r>
            <a:endParaRPr b="0" lang="en-US" sz="48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2057400" y="2895480"/>
            <a:ext cx="64008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ffffff"/>
                </a:solidFill>
                <a:latin typeface="Times New Roman"/>
              </a:rPr>
              <a:t>Le profil personnel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#5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1371600" y="1523880"/>
            <a:ext cx="7620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Qui __ 14 ans?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#6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1371600" y="1447920"/>
            <a:ext cx="76201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Qui __ les yeux marron?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#7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1371600" y="1447920"/>
            <a:ext cx="7620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Qui ___ gentil?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#8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26" name="Text Box 3"/>
          <p:cNvSpPr/>
          <p:nvPr/>
        </p:nvSpPr>
        <p:spPr>
          <a:xfrm>
            <a:off x="1371600" y="1447920"/>
            <a:ext cx="7620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Qui ___ sportif?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Révisons!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#1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29" name="Text Box 3"/>
          <p:cNvSpPr/>
          <p:nvPr/>
        </p:nvSpPr>
        <p:spPr>
          <a:xfrm>
            <a:off x="1371600" y="1523880"/>
            <a:ext cx="75438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Qui ___ les yeux bleus?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Box 3"/>
          <p:cNvSpPr/>
          <p:nvPr/>
        </p:nvSpPr>
        <p:spPr>
          <a:xfrm>
            <a:off x="3886200" y="1495440"/>
            <a:ext cx="1371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0" spc="-1" strike="noStrike">
                <a:solidFill>
                  <a:srgbClr val="0000ff"/>
                </a:solidFill>
                <a:latin typeface="Times New Roman"/>
              </a:rPr>
              <a:t>a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#2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1295280" y="2041560"/>
            <a:ext cx="762012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Qui ___ sympa?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Box 3"/>
          <p:cNvSpPr/>
          <p:nvPr/>
        </p:nvSpPr>
        <p:spPr>
          <a:xfrm>
            <a:off x="3581280" y="2057400"/>
            <a:ext cx="1371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0" spc="-1" strike="noStrike">
                <a:solidFill>
                  <a:srgbClr val="0000ff"/>
                </a:solidFill>
                <a:latin typeface="Times New Roman"/>
              </a:rPr>
              <a:t>est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#3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1371600" y="1447920"/>
            <a:ext cx="762012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Qui ___ grand?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Box 3"/>
          <p:cNvSpPr/>
          <p:nvPr/>
        </p:nvSpPr>
        <p:spPr>
          <a:xfrm>
            <a:off x="3886200" y="1449360"/>
            <a:ext cx="1371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0" spc="-1" strike="noStrike">
                <a:solidFill>
                  <a:srgbClr val="0000ff"/>
                </a:solidFill>
                <a:latin typeface="Times New Roman"/>
              </a:rPr>
              <a:t>est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#4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38" name="Text Box 3"/>
          <p:cNvSpPr/>
          <p:nvPr/>
        </p:nvSpPr>
        <p:spPr>
          <a:xfrm>
            <a:off x="1371600" y="1447920"/>
            <a:ext cx="7620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Qui ___ les cheveux noirs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Box 3"/>
          <p:cNvSpPr/>
          <p:nvPr/>
        </p:nvSpPr>
        <p:spPr>
          <a:xfrm>
            <a:off x="4952880" y="1343160"/>
            <a:ext cx="1371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0" spc="-1" strike="noStrike">
                <a:solidFill>
                  <a:srgbClr val="0000ff"/>
                </a:solidFill>
                <a:latin typeface="Times New Roman"/>
              </a:rPr>
              <a:t>a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#5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41" name="Text Box 3"/>
          <p:cNvSpPr/>
          <p:nvPr/>
        </p:nvSpPr>
        <p:spPr>
          <a:xfrm>
            <a:off x="1371600" y="1523880"/>
            <a:ext cx="7620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Qui __ 14 ans?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Box 3"/>
          <p:cNvSpPr/>
          <p:nvPr/>
        </p:nvSpPr>
        <p:spPr>
          <a:xfrm>
            <a:off x="4038480" y="1449360"/>
            <a:ext cx="1371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0" spc="-1" strike="noStrike">
                <a:solidFill>
                  <a:srgbClr val="0000ff"/>
                </a:solidFill>
                <a:latin typeface="Times New Roman"/>
              </a:rPr>
              <a:t>a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e3c16b"/>
                </a:solidFill>
                <a:latin typeface="Times New Roman"/>
              </a:rPr>
              <a:t>Contexte: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23520" y="1523880"/>
            <a:ext cx="723924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525a28"/>
                </a:solidFill>
                <a:latin typeface="Times New Roman"/>
              </a:rPr>
              <a:t>Vous parlez avec des élèves français qui visitent Joel Barlow pour une semaine.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525a28"/>
                </a:solidFill>
                <a:latin typeface="Times New Roman"/>
              </a:rPr>
              <a:t>Vous êtes à une petite fête pour célébrer leur arrivée.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525a28"/>
                </a:solidFill>
                <a:latin typeface="Times New Roman"/>
              </a:rPr>
              <a:t>Les élèves français vous posent des questions au sujet de vos camarades de classe.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#6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1371600" y="1447920"/>
            <a:ext cx="76201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Qui __ les yeux marron?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Box 3"/>
          <p:cNvSpPr/>
          <p:nvPr/>
        </p:nvSpPr>
        <p:spPr>
          <a:xfrm>
            <a:off x="3886200" y="1449360"/>
            <a:ext cx="1371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0" spc="-1" strike="noStrike">
                <a:solidFill>
                  <a:srgbClr val="0000ff"/>
                </a:solidFill>
                <a:latin typeface="Times New Roman"/>
              </a:rPr>
              <a:t>a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#7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47" name="Text Box 3"/>
          <p:cNvSpPr/>
          <p:nvPr/>
        </p:nvSpPr>
        <p:spPr>
          <a:xfrm>
            <a:off x="1371600" y="1447920"/>
            <a:ext cx="7620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Qui ___ gentil?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Box 4"/>
          <p:cNvSpPr/>
          <p:nvPr/>
        </p:nvSpPr>
        <p:spPr>
          <a:xfrm>
            <a:off x="3886200" y="1449360"/>
            <a:ext cx="1371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0" spc="-1" strike="noStrike">
                <a:solidFill>
                  <a:srgbClr val="0000ff"/>
                </a:solidFill>
                <a:latin typeface="Times New Roman"/>
              </a:rPr>
              <a:t>est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#8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50" name="Text Box 3"/>
          <p:cNvSpPr/>
          <p:nvPr/>
        </p:nvSpPr>
        <p:spPr>
          <a:xfrm>
            <a:off x="1371600" y="1447920"/>
            <a:ext cx="7620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Qui ___ sportif?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Box 3"/>
          <p:cNvSpPr/>
          <p:nvPr/>
        </p:nvSpPr>
        <p:spPr>
          <a:xfrm>
            <a:off x="3657600" y="1419120"/>
            <a:ext cx="1371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0" spc="-1" strike="noStrike">
                <a:solidFill>
                  <a:srgbClr val="0000ff"/>
                </a:solidFill>
                <a:latin typeface="Times New Roman"/>
              </a:rPr>
              <a:t>est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e3c16b"/>
                </a:solidFill>
                <a:latin typeface="Times New Roman"/>
              </a:rPr>
              <a:t>Tâche: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1523520" y="1523880"/>
            <a:ext cx="723924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525a28"/>
                </a:solidFill>
                <a:latin typeface="Times New Roman"/>
              </a:rPr>
              <a:t>Répondre aux questions.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525a28"/>
                </a:solidFill>
                <a:latin typeface="Times New Roman"/>
              </a:rPr>
              <a:t>Utiliser le verbe approprié </a:t>
            </a:r>
            <a:r>
              <a:rPr b="1" lang="fr-FR" sz="3200" spc="-1" strike="noStrike" u="sng">
                <a:solidFill>
                  <a:srgbClr val="525a28"/>
                </a:solidFill>
                <a:uFillTx/>
                <a:latin typeface="Times New Roman"/>
              </a:rPr>
              <a:t>ÊTRE</a:t>
            </a:r>
            <a:r>
              <a:rPr b="0" lang="fr-FR" sz="3200" spc="-1" strike="noStrike">
                <a:solidFill>
                  <a:srgbClr val="525a28"/>
                </a:solidFill>
                <a:latin typeface="Times New Roman"/>
              </a:rPr>
              <a:t> ou </a:t>
            </a:r>
            <a:r>
              <a:rPr b="1" lang="fr-FR" sz="3200" spc="-1" strike="noStrike" u="sng">
                <a:solidFill>
                  <a:srgbClr val="525a28"/>
                </a:solidFill>
                <a:uFillTx/>
                <a:latin typeface="Times New Roman"/>
              </a:rPr>
              <a:t>AVOIR</a:t>
            </a:r>
            <a:r>
              <a:rPr b="0" lang="fr-FR" sz="3200" spc="-1" strike="noStrike">
                <a:solidFill>
                  <a:srgbClr val="525a28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Modèle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1447920" y="1523880"/>
            <a:ext cx="7391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Qui __les cheveux longs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Box 6"/>
          <p:cNvSpPr/>
          <p:nvPr/>
        </p:nvSpPr>
        <p:spPr>
          <a:xfrm>
            <a:off x="1752480" y="3352680"/>
            <a:ext cx="67820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 u="sng">
                <a:solidFill>
                  <a:srgbClr val="0000ff"/>
                </a:solidFill>
                <a:uFillTx/>
                <a:latin typeface="Times New Roman"/>
              </a:rPr>
              <a:t>Amélia</a:t>
            </a:r>
            <a:r>
              <a:rPr b="0" i="1" lang="fr-FR" sz="60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i="1" lang="fr-FR" sz="6000" spc="-1" strike="noStrike">
                <a:solidFill>
                  <a:srgbClr val="000000"/>
                </a:solidFill>
                <a:latin typeface="Times New Roman"/>
              </a:rPr>
              <a:t>a les cheveux longs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Box 1"/>
          <p:cNvSpPr/>
          <p:nvPr/>
        </p:nvSpPr>
        <p:spPr>
          <a:xfrm>
            <a:off x="2844720" y="1449360"/>
            <a:ext cx="1143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00ff"/>
                </a:solidFill>
                <a:latin typeface="Times New Roman"/>
              </a:rPr>
              <a:t>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Modèle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08" name="Text Box 3"/>
          <p:cNvSpPr/>
          <p:nvPr/>
        </p:nvSpPr>
        <p:spPr>
          <a:xfrm>
            <a:off x="1371600" y="152388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Qui __ intelligent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Box 6"/>
          <p:cNvSpPr/>
          <p:nvPr/>
        </p:nvSpPr>
        <p:spPr>
          <a:xfrm>
            <a:off x="1676520" y="3124080"/>
            <a:ext cx="6781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 u="sng">
                <a:solidFill>
                  <a:srgbClr val="0000ff"/>
                </a:solidFill>
                <a:uFillTx/>
                <a:latin typeface="Times New Roman"/>
              </a:rPr>
              <a:t>Alejandro</a:t>
            </a:r>
            <a:r>
              <a:rPr b="0" i="1" lang="fr-FR" sz="4800" spc="-1" strike="noStrike">
                <a:solidFill>
                  <a:srgbClr val="000000"/>
                </a:solidFill>
                <a:latin typeface="Times New Roman"/>
              </a:rPr>
              <a:t> est intelligent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200400" y="1650960"/>
            <a:ext cx="1143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00ff"/>
                </a:solidFill>
                <a:latin typeface="Times New Roman"/>
              </a:rPr>
              <a:t>est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#1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12" name="Text Box 3"/>
          <p:cNvSpPr/>
          <p:nvPr/>
        </p:nvSpPr>
        <p:spPr>
          <a:xfrm>
            <a:off x="1371600" y="1523880"/>
            <a:ext cx="75438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Qui ___ les yeux bleus?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#2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1295280" y="2041560"/>
            <a:ext cx="762012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Qui ___ sympa?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#3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1371600" y="1447920"/>
            <a:ext cx="762012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Qui ___ grand?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#4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18" name="Text Box 3"/>
          <p:cNvSpPr/>
          <p:nvPr/>
        </p:nvSpPr>
        <p:spPr>
          <a:xfrm>
            <a:off x="1371600" y="1447920"/>
            <a:ext cx="7620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Qui ___ les cheveux noirs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3T00:08:49Z</dcterms:created>
  <dc:creator>Mr. Smith</dc:creator>
  <dc:description/>
  <dc:language>en-US</dc:language>
  <cp:lastModifiedBy>Edouard Smith</cp:lastModifiedBy>
  <dcterms:modified xsi:type="dcterms:W3CDTF">2014-10-09T00:48:21Z</dcterms:modified>
  <cp:revision>76</cp:revision>
  <dc:subject/>
  <dc:title>Allez, viens! – Level 2</dc:title>
</cp:coreProperties>
</file>